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556-7CE4-4EA7-A7B8-F397533F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B56-9744-44E3-9AB6-7E66EFF0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3F1-B555-4E69-879D-1AAF92FE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B4E-AA9D-48D5-BEE2-E15D9CEE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84BF-35F2-45A3-8B29-BD948A35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DA5E-4CCA-4B26-9CBD-80C63DA3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5855-005C-4A6F-9F0A-F7F98BF4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3013-8E4B-4092-A108-BE01585C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A828-5A57-49BA-A4F4-C55CE4D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43B7-F3B1-43B1-ACA4-02BC9BA6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217A-8BF1-45C9-BE0C-552EED56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F42-7708-4B8B-93FF-D067624D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E7CB-4219-4C75-9B5C-C89CD62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051C-286F-4232-9C64-0AD4C78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A4E-3D5F-4DD7-A673-F8B1097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3EA0-0340-43B4-984D-BAB561BF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5BF-5487-4E73-A555-F72EA31B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156-F910-48C5-BEFF-091DF4D0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006-60BB-4786-BFB9-DE8AAB47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BE4-DCC7-4903-BA59-98571EE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6CE-EA13-4E01-A13B-FF04B22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749-4BE8-4ED4-8CB4-882C909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C64-2D4B-4E7D-85D1-F6E187F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FA9-7BBC-44F0-87F7-13619A38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5DDA-620F-48DB-AE35-FCA0F42DA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7CD-A5ED-4B23-AFF1-2E034E712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SYLLAB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AD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Read each of the parables two times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MORY VER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14:33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9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2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3:2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13: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SEARCH PAP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rite a two-page essay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an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one of the list 45 Parables (your choi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XA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e Exam – a F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ELF-EXAM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mplete all your Self-Exa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 Chapter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am question will come from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AD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EMORY VER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SEARCH PAP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SELF-EXAM QUES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INAL EX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57:56Z</dcterms:created>
  <dc:creator>Jerry Cantrell </dc:creator>
  <dc:description/>
  <dc:language>en-US</dc:language>
  <cp:lastModifiedBy>Jerry Cantrell </cp:lastModifiedBy>
  <dcterms:modified xsi:type="dcterms:W3CDTF">2006-02-06T23:29:51Z</dcterms:modified>
  <cp:revision>4</cp:revision>
  <dc:subject/>
  <dc:title>SYLLABUS</dc:title>
</cp:coreProperties>
</file>